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D98-6294-4B74-B3DB-5E1C11B0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F21-E61C-4E3B-820B-48DDA6F6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B94-822A-442D-BF45-B8B6C0A3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AC2-D13E-44F6-8062-E229BC30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330-C1BD-4757-A08C-89892370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BAF-5A67-472E-BAC9-37CF0943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D4E-7847-462C-B9BC-E0432EEF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4BC-C048-44FC-B284-AC7EAE22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6AB-F50F-40C2-80E9-164E782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8F4-4B00-4C1A-879A-9BA8E4ED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D22-F769-4467-881C-516FB23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664-7596-4D47-BA0E-E09C7C0F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82C0-B6F0-40F2-BEE0-56DE31939F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adley Hand ITC"/>
              </a:rPr>
              <a:t>La Mansion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Por Marcella Domicia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mansi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y gra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lujo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6058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cin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 u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c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 mu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pund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moder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u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st moder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luj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038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uar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i cua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uy gran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est m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m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86200" y="2205000"/>
            <a:ext cx="4762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medo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i come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en organiza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164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aló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i s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uy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t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din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gra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48290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5:40Z</dcterms:created>
  <dc:creator>domicianomar</dc:creator>
  <dc:description/>
  <dc:language>en-US</dc:language>
  <cp:lastModifiedBy>domicianomar</cp:lastModifiedBy>
  <dcterms:modified xsi:type="dcterms:W3CDTF">2013-04-11T17:06:51Z</dcterms:modified>
  <cp:revision>4</cp:revision>
  <dc:subject/>
  <dc:title>La Casa </dc:title>
</cp:coreProperties>
</file>